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D08-7A83-473D-B113-D05FB545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A9DE-A096-4278-8059-3C3690B17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it called up in advance with it enlar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F27-8183-43F6-9F4C-6FD0E0B4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F75-469A-4009-978F-FDECBD4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24A-6017-4FED-93DE-CEECAD08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C1C-E71E-43EA-B7D7-6E42EB86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6D2-8CED-43BC-B691-F763F10F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80E-FD78-4794-A9BC-CBC30DAB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EF8-23E4-4740-ACD9-EA47A01E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38A-6B52-471C-8E87-9D8C07B5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D74-5889-4AB3-8CA5-2665920D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1A6-31CD-4D07-9EE8-1657DDF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7F4-F986-4FB1-83F1-A426A7F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C9E-737B-4178-9A7E-251726F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5D85-9C3D-480E-A677-78ED3675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00160" y="930240"/>
            <a:ext cx="8542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50400"/>
            <a:ext cx="905508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ttp://www.enchantedlearning.com/usa/states/florida/map.GIF"/>
          <p:cNvPicPr/>
          <p:nvPr/>
        </p:nvPicPr>
        <p:blipFill>
          <a:blip r:embed="rId2"/>
          <a:stretch/>
        </p:blipFill>
        <p:spPr>
          <a:xfrm>
            <a:off x="3479760" y="2133720"/>
            <a:ext cx="33242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62120" y="1047600"/>
            <a:ext cx="87217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930240"/>
            <a:ext cx="10159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612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100160"/>
            <a:ext cx="1015992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6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1523880"/>
            <a:ext cx="101599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7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930240"/>
            <a:ext cx="1015992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8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68120" y="930240"/>
            <a:ext cx="99936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9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930240"/>
            <a:ext cx="10159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10.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1523880"/>
            <a:ext cx="10159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Elements on a Ma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ass R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dinal directions (N, S, E, W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mediate (NW, NE, SE, SW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r 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et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Compass Ro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42289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d to show directions on a map. Shows which way north, south, east, and west a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826160" y="2031840"/>
            <a:ext cx="453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Legend or Ke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4280" y="3521160"/>
            <a:ext cx="338328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ws what the symbols on the map stand f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4486320" y="1692360"/>
            <a:ext cx="4362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Bar Sca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280" y="1488960"/>
            <a:ext cx="3129120" cy="58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tool that is used to find the real distance between two places. (Ex. How many miles from one city to the nex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301920" y="1492200"/>
            <a:ext cx="6858000" cy="612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116240" y="5302080"/>
            <a:ext cx="548352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2320" y="174312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d to show what the map is map of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Tit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143000" y="2254320"/>
            <a:ext cx="74833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Inset Ma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14200" y="1828440"/>
            <a:ext cx="321336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d to show the bigger picture of what and where the map is show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09880" y="1438200"/>
            <a:ext cx="5948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Elements Review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ach map, write down what elements are found on the ma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maps may have all five elements, some may only have one or tw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your paper 1-1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Luck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0" y="846000"/>
            <a:ext cx="10159920" cy="677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822320" y="304920"/>
            <a:ext cx="1605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icrosoft Office User</cp:lastModifiedBy>
  <dcterms:modified xsi:type="dcterms:W3CDTF">2016-08-25T01:41:44Z</dcterms:modified>
  <cp:revision>2</cp:revision>
  <dc:subject/>
  <dc:title>PowerPoint Presentation</dc:title>
</cp:coreProperties>
</file>